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FE6-776C-4EBF-A6A2-1F13EFE85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9C6D-4043-4E7D-928B-C8E4EEFC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DAC-2B57-4C26-A9AD-377E648A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072-1F8D-4651-AF6F-B407B0ED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5913-7E24-4FD4-9C9D-CC7CFFB1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058D-8106-404A-85F1-D3D5F6B72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36028-23EA-4472-A15F-72B20DC5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1AE-F2F4-4FD6-94DE-741B370CD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CCED-2E49-416C-90D2-2D1B5C0A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98B4-B0AF-4562-8388-9AB3A533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6FBD-5159-42CE-921E-93D80D05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B2D-8AC4-4CC4-AF0C-426598D02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2C6B-3C74-4F33-B2CA-A5F29CB2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A914-C2F8-45F9-9899-B2E519F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4403-C830-402E-9230-C2B5F049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2AFA-755B-4001-9E4F-9673609BB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D1B2-793A-46C5-ADF1-1B72EF01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75AC7-7973-4231-A1D0-5F342CD2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8F08E-DB6B-434A-A15D-5AF441D7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CDF44-2142-467C-9B9F-64B42AB2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9C9B-DE7E-4C5F-917C-43E95494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7EC3C-77B0-4342-8C7C-A8A25B26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F0D-4BC4-493E-837B-2096D24C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951E4-D7DB-475C-AB85-96CD5D50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EFF36-40AC-4FA2-90F3-7C527A3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716F1-EC94-4222-B206-93509C49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3A105-38E1-4161-9184-77E3D32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7B2A-9C8E-489E-88D3-AC910FC3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709CC-ABD4-4296-85F1-FCB45203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76832-8CC2-41E4-9F5C-6BA8DA12C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6A73-79B6-4080-B506-790AA6034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D090C-1337-42ED-AD22-FB86B520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7EC46-8EF3-45AF-A51B-E28B874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F1CB-E70D-4D9D-8831-AAA60527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EBFD8-8A45-45FF-9187-D0D81ADF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BDEB9-79C5-455C-B9F8-51F77AEE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83EF-F3AB-4D04-82EC-87E4C92E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AB6A1-3839-47B8-AC4C-458521AC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A15BC-80C9-483B-AFD9-107D76D4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E7D0D-A80B-48BE-A89D-7A9364A6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B8F42-02CC-4FC4-8192-661239F1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24763-0CF7-4686-8896-2BB8FD07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805A1-E0C1-4EDC-9CA5-FC0C7504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6329E-5C4C-4A56-99E7-235956F6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D650-B610-426C-BAF7-86F3CFD2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54D0-865A-49E1-9EB9-BD09F1EDB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7B3F0-CF40-42EE-BA7A-FCB54C72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1B9C2-F39F-4270-9EBC-409FB469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263F5-1F34-43F7-BDBA-F8CBE91E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511CC3-340B-4E5E-9599-D6B1BDB2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B35D7-7E6E-484D-B0D8-3DFB9A098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2D271-CD1B-4890-A59E-A0A9F33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D467E-ACFE-430A-AF09-E3D148E6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4A4DF-9C85-4A1E-A27F-899D3B6B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D8EAB-6737-475C-8EE5-D1CDCA74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278C-B813-482B-9570-D10246C4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A8FA-020B-4372-9514-B003004A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A49B9-41C8-4CC1-86B6-C311EA05E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D2518-2F19-4178-B005-2BB10426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9BCE-5BEC-4884-8C73-8B20DDDBE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6F56-C467-452A-B5BC-9FC3A893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36586-EADF-4F7E-9035-AFD528E7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38818-D5CD-42AD-BBBF-211E2427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5904-5816-4488-9D56-01137702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0C3E6-1119-4858-AE45-4108A7F6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D8606-3EE3-48C8-8B36-62AD0D73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AEF-D90A-48FA-B137-D28B655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D258C-2AE4-4C7E-BFD2-12898CAF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3305-4B0C-4289-94B3-7A18832D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77206-2D30-4B94-8781-7F33C76D9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5FF58-CEE8-4284-AD21-D785DAA90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1B46F-181A-4670-AD1C-73EE478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C64E6-FBEA-438E-B1B1-40359B357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BB0D-2C6D-4ACA-91FD-7F1FE6AE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46B8A-B424-4F81-803C-6CF438E5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EB23D-D3EF-429C-8E9D-747E866C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959EE-03E1-43B6-BBB8-280232A1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12C-7658-4930-8769-B87781E4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21B79-F419-4EBB-BB4C-786725A5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30BAB-CC27-4AE9-8060-3322984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0C6E4-6FC6-444D-BD71-E6041A0B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4F6C-AE71-40FC-A17D-B7DA4EDA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F4927-6345-468B-936A-F54F97AC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DC3E-49A9-461D-86D3-06E8E3BE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CAE554-804C-4567-889D-E3D5CF70051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73486E-B23B-47FA-9ECC-D57DD137C4D2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269242-8D08-4B0F-8AD8-F61F6439BDD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9C031-2FED-46C3-9A6C-1E58496095BB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8124C4-A6DE-46C2-A1FE-EC7836983AE0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22532-11B8-498C-A224-E093554FECE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959D25-C379-4B26-AE3D-6E46F94C18AD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77C12-29CC-425A-B83D-E83B4B1807A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CECE5-74A7-4549-9EE0-DB4DB3C536F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4428B2-5F09-46A5-9D41-234A79E27E7B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2FB95A-79A2-4E35-9B99-236D4395280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A29DD-D260-48DC-8E37-ECD742DF0A7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990B23-D924-450E-8150-928D2ECA25E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02B34-BDD1-428A-BCBC-4ED9B48E7BE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0756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Referral of CKD to Nephrologist 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 Light"/>
              </a:rPr>
              <a:t>MODULE 3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KONG WEI YE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PUSAT PERUBATAN UNIVERSITI KEBANGSAAN MALAYSIA, KUALA LUMPUR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DR. ILIZA IDRIS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700" spc="-1" strike="noStrike">
                <a:solidFill>
                  <a:srgbClr val="000000"/>
                </a:solidFill>
                <a:latin typeface="Calibri Light"/>
              </a:rPr>
              <a:t>KLINIK KESIHATAN AMPANGAN, NEGERI SEMBILAN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4FADF0-8687-4F4F-AC42-025AC6EF2CC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58FA4-B397-4795-BF29-AD0BDB62329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14" descr=""/>
          <p:cNvPicPr/>
          <p:nvPr/>
        </p:nvPicPr>
        <p:blipFill>
          <a:blip r:embed="rId1"/>
          <a:stretch/>
        </p:blipFill>
        <p:spPr>
          <a:xfrm>
            <a:off x="809640" y="363600"/>
            <a:ext cx="752472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mmediate 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KI superimposed on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wly detected ESR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ccelerated or malignant hyperten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fe-threatening hyperkal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spected rapidly progressive glomerulonephriti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87254-64C7-47DC-8635-A2CCB26D80C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linical ti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atients with CKD and renal outflow obstruction should be referred to urological services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en referring to a nephrologist, ensure patient has: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ial 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eferably a recent renal ultrasound repo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hronic Kidney Disease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CA068-5E3C-4FE2-91B1-8BD1470E6E9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Case scenario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AAEBA-3D3C-485E-A8AA-109384BC3EA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ase scenario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   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0.6 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P is 134/78 mmHg on single antihypertensive agent and is otherwise health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E224CB-FE7E-424C-BE02-FEC3401BAF2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55A74-CCDD-49EC-8533-F1BC1100B89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- N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tively stable eGFR: expect declin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&lt;2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w risk of progression: mild proteinuria, good control of BP, single antihypertensive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monitored and managed in a primary care set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139F9A-5EED-44F4-BFA6-702E7612116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How to monitor in Klinik Kesihatan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846080"/>
            <a:ext cx="78534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tain optimal BP contro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ose appropriate antihypertensive agents i.e. ACEi/ARB and optimise dosage for proteinuria redu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festyle modifications: diet, weight management, quit 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e patient to avoid nephrotoxic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 RP/proteinuria regularly 3 - 6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reen for complications: FBC, CaPO4 6 - 12 monthl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772589-3C02-435F-B845-CED012A3423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cenario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5-year-old female has a creatinine level of 133 μmol/L (eGFR of 39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baseline creatinine level three years ago was 124 μmol/L (eGFR  43 ml/min/1.73 m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r 24-hour urinary protein is 2.4 g (0.5 g 1 year ago)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e is on three antihypertensive agents including perindopril 8 mg OD and her BP is 168/94 mmH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3EA05-4BA7-4C4B-826E-84685948F1F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the stage of CKD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so,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B6B29-A321-44C6-B874-487382E6D02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understand the indications and timing of referral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ecognise the possibilities of AKI in primary care sett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illustrate the collaborations between nephrologists and primary care specialists in the management of CK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765063-D761-4E1A-8F26-CC47BD3D6EE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sw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stage? - CKD stage G3b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refer this case to a nephrologist? Y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y? High risk of progression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vy (and increasing trend of) proteinuri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controlled BP despite on 3 antihypertensive agents (including maximum dose of ACE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would you do next? Referral to nephrologis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C609B-D5F3-4178-A31B-EAF6AAD2C8B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gency of the referra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in doubt, communicate with the nephrologist (e.g. if patient needs urgent attention for suspected RPGN, severe AKI superimposed on CKD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o do before referring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chemistry and urine a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ferably a recent renal ultrasound (but do not delay the referra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72277-E597-4FFD-8ACD-298E2C70844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ferral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ared-care with effective communication between the nephrologist and primary healthcare provider is strongly encourage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rect consultation on indication and timing of referr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Feedback on patients’ progress: update single book, suggestions/recommendations on medications and monitor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aring of the trend of blood resul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6CDEA-55CE-415A-9ADC-0425D5B05A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82699C-29CA-4261-BEF3-1F81713BF83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nd-stage renal disease (ESRD), and high morbidity and mortality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. Levey AS, et al. Kidney Int. 2007;72(3):247-59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9822FF-50B0-41A4-9E4B-FA6F8ADF231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and its expecte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and nephrologists is paramount in ensuring the best care for the pati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64EC11-3FAE-46DB-9472-05CCBBC28E9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do we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ferral to nephrologist is indicated when a healthcare provider feels that </a:t>
            </a: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additional expert input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is required for patient’s managemen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aim may b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rule out acute kidney injury (AKI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delay CKD progress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o prepare for renal replacement therapy (RR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D7FD5-B39D-4256-BF52-581C1381D85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Why refer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ly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ferral to nephrologist has the benefit in reducing mortality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spital stay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, achieving high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emoglobin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vels and b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ter dialysis preparation compared with late referral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SR involving 27 studies and 17,646 participants, early referral was commonly defined as 3 months before commencing dialysis: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64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NNT to prevent 1 death at 12 months = 10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Mean difference of hospital stay = 7.7 da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Peritoneal dialysis uptake more common (OR=2.1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Less temporary vascular access (OR=0.18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4. Smart NA, et al. Am J Med. 2011;124(11):1073-80.e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6E83E-67F4-4997-9E64-A96D875358E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en to refer to nephrologist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is no clear evidence to recommend indications of referral to nephrologist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t is important to look at the trend of SCr and eGFR when deciding on the urgency of referral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 optimal time depends on the aim of referral which must always be individualised, taking into consideration the patient’s co-morbidities, functional status and life expectanc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D17F2-B469-4C07-8BA2-DB4B356BFC8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5280" y="1846080"/>
            <a:ext cx="84312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vide specific treatment of the underlying renal condition (treat GN, etc.), which will delay, halt or even reverse the resulting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de whether patients need further investigations (imagings, renal biospy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ular RP, GFR and proteinuria measurements to guide treatm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od pressure and proteinuria control with appropriate medications (treat to appropriate target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ing and management of CKD complications (renal anaemia, CKD-Mineral Bone Disorder, metabolic acidosis, malnutrition,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D4183-9CFD-4216-94ED-6FE8206B406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What can/does a nephrologist do when getting referred?</a:t>
            </a:r>
            <a:r>
              <a:rPr b="1" lang="en-US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patients with more advanced CKD, nephrologists ca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/intensify all treatments described abov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with patient/family to decide on the most suitable modality of RR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pare appropriate dialysis access in a timely manner for the pati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ide on timing of RRT initi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40BCE6-84DB-46D8-A33F-BC4BD00A431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27:28Z</dcterms:modified>
  <cp:revision>161</cp:revision>
  <dc:subject/>
  <dc:title>SCREENING &amp; DIAGNOSIS</dc:title>
</cp:coreProperties>
</file>